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D490-193D-46DA-8594-5159E230D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2BD2-6D4F-4F34-B372-5A6708368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6AAF-E9E3-4C02-AEA0-B57BB4B67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7BC7-0AE7-4470-AA47-190D4AAC2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2B7-6A8A-41F8-965F-B5020BDB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472-290C-4A3B-B017-B0713ECA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E01-DA64-4906-85B5-A75ED730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458-1D67-4C1F-823C-46F25ADA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9D2-4E90-489C-839C-45BC15B6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8EF-99D0-49AA-AD70-F2B4F072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B6C-BD14-44AF-9024-E77FA4BF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DA5-D9B9-4331-80A4-02EA2C11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0BF-B6F0-46E4-AEFB-07191517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37F1-E38E-4225-9DC9-08AA07F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44F0-9439-44A7-95BE-4A788DAB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D74-1D74-4793-AB1B-3B1D09FD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FF96-7195-4DAD-9EDB-2256480CD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9"/>
          <p:cNvGrpSpPr/>
          <p:nvPr/>
        </p:nvGrpSpPr>
        <p:grpSpPr>
          <a:xfrm>
            <a:off x="358920" y="641520"/>
            <a:ext cx="8026200" cy="551520"/>
            <a:chOff x="358920" y="641520"/>
            <a:chExt cx="8026200" cy="551520"/>
          </a:xfrm>
        </p:grpSpPr>
        <p:sp>
          <p:nvSpPr>
            <p:cNvPr id="49" name="Line 4"/>
            <p:cNvSpPr/>
            <p:nvPr/>
          </p:nvSpPr>
          <p:spPr>
            <a:xfrm>
              <a:off x="533520" y="685800"/>
              <a:ext cx="731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>
              <a:off x="4952880" y="64152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358920" y="73332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7"/>
            <p:cNvSpPr/>
            <p:nvPr/>
          </p:nvSpPr>
          <p:spPr>
            <a:xfrm>
              <a:off x="7624800" y="69048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8"/>
            <p:cNvSpPr/>
            <p:nvPr/>
          </p:nvSpPr>
          <p:spPr>
            <a:xfrm>
              <a:off x="4807080" y="71928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0"/>
          <p:cNvSpPr/>
          <p:nvPr/>
        </p:nvSpPr>
        <p:spPr>
          <a:xfrm>
            <a:off x="358920" y="1434960"/>
            <a:ext cx="8461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 = 3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 = 2x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 =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x.  Then find RS and 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4"/>
          <p:cNvGrpSpPr/>
          <p:nvPr/>
        </p:nvGrpSpPr>
        <p:grpSpPr>
          <a:xfrm>
            <a:off x="511200" y="793800"/>
            <a:ext cx="8026200" cy="551520"/>
            <a:chOff x="511200" y="793800"/>
            <a:chExt cx="8026200" cy="551520"/>
          </a:xfrm>
        </p:grpSpPr>
        <p:sp>
          <p:nvSpPr>
            <p:cNvPr id="56" name="Line 5"/>
            <p:cNvSpPr/>
            <p:nvPr/>
          </p:nvSpPr>
          <p:spPr>
            <a:xfrm>
              <a:off x="685800" y="838080"/>
              <a:ext cx="731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6"/>
            <p:cNvSpPr/>
            <p:nvPr/>
          </p:nvSpPr>
          <p:spPr>
            <a:xfrm>
              <a:off x="5105160" y="79380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511200" y="88560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8"/>
            <p:cNvSpPr/>
            <p:nvPr/>
          </p:nvSpPr>
          <p:spPr>
            <a:xfrm>
              <a:off x="7777080" y="84276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9"/>
            <p:cNvSpPr/>
            <p:nvPr/>
          </p:nvSpPr>
          <p:spPr>
            <a:xfrm>
              <a:off x="4959360" y="87156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10"/>
          <p:cNvSpPr/>
          <p:nvPr/>
        </p:nvSpPr>
        <p:spPr>
          <a:xfrm>
            <a:off x="511200" y="1587600"/>
            <a:ext cx="846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 = 8y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 = 4y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 = 15y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x.  Then find RS, ST and 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4"/>
          <p:cNvGrpSpPr/>
          <p:nvPr/>
        </p:nvGrpSpPr>
        <p:grpSpPr>
          <a:xfrm>
            <a:off x="511200" y="793800"/>
            <a:ext cx="8026200" cy="551520"/>
            <a:chOff x="511200" y="793800"/>
            <a:chExt cx="8026200" cy="551520"/>
          </a:xfrm>
        </p:grpSpPr>
        <p:sp>
          <p:nvSpPr>
            <p:cNvPr id="63" name="Line 5"/>
            <p:cNvSpPr/>
            <p:nvPr/>
          </p:nvSpPr>
          <p:spPr>
            <a:xfrm>
              <a:off x="685800" y="838080"/>
              <a:ext cx="731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5105160" y="79380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511200" y="88560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7777080" y="84276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9"/>
            <p:cNvSpPr/>
            <p:nvPr/>
          </p:nvSpPr>
          <p:spPr>
            <a:xfrm>
              <a:off x="4959360" y="87156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10"/>
          <p:cNvSpPr/>
          <p:nvPr/>
        </p:nvSpPr>
        <p:spPr>
          <a:xfrm>
            <a:off x="511200" y="1587600"/>
            <a:ext cx="846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 = 5x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 =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x.  Then find 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20:58:53Z</dcterms:created>
  <dc:creator> </dc:creator>
  <dc:description/>
  <dc:language>en-US</dc:language>
  <cp:lastModifiedBy>Administratr</cp:lastModifiedBy>
  <dcterms:modified xsi:type="dcterms:W3CDTF">2010-08-06T00:38:15Z</dcterms:modified>
  <cp:revision>6</cp:revision>
  <dc:subject/>
  <dc:title>Slide 1</dc:title>
</cp:coreProperties>
</file>